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42E-D121-443E-9598-B6BDDB4B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612-325D-4D01-AE3A-A4C680D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625-ED0A-4187-BA2A-196A63DC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70028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380952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0F9-0D8F-4124-A8EA-E8F78863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290-0F5B-4187-9EA7-548BAB9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76C-23BF-4ADD-81EB-668C7032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979-39D3-4F86-8642-3A7BF90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B3E-D06D-41C5-BDE7-E428CF9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DD9-4AE3-448A-85B9-EA28AFDB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243-D72C-4ECE-B3C9-EFD4930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380952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A11-83C3-4F14-A8B8-3C813C0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700280"/>
            <a:ext cx="39416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09520"/>
            <a:ext cx="80773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6B2-EDD1-43A5-861A-F6F8B31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-34020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894600" indent="-32976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355040" indent="-34848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788840" indent="-321840">
              <a:lnSpc>
                <a:spcPct val="85000"/>
              </a:lnSpc>
              <a:spcAft>
                <a:spcPts val="1599"/>
              </a:spcAft>
              <a:buClr>
                <a:srgbClr val="990000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788840" indent="-32184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CF9-07C5-4B35-A439-DC8F890F8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19520" y="6172200"/>
            <a:ext cx="342900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70028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5:20:13Z</dcterms:created>
  <dc:creator>Tracy</dc:creator>
  <dc:description/>
  <dc:language>en-US</dc:language>
  <cp:lastModifiedBy>Eileen McCarthy</cp:lastModifiedBy>
  <cp:lastPrinted>1999-10-14T14:06:06Z</cp:lastPrinted>
  <dcterms:modified xsi:type="dcterms:W3CDTF">2004-11-23T20:00:44Z</dcterms:modified>
  <cp:revision>226</cp:revision>
  <dc:subject/>
  <dc:title>No Slide Title</dc:title>
</cp:coreProperties>
</file>