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578F-7C33-454B-B3BB-89BC06A5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809520"/>
            <a:ext cx="80773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57F-FD78-4FB6-9641-3CB98ED7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472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A067-566A-477F-B867-0A8FAC93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6400" y="170028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7720" y="170028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80952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6400" y="380952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7720" y="380952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795-D04F-4332-BFFE-8281D8B0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8DA1-4D3E-4FF2-B722-DF237FBC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00C-1E3C-4917-8536-C5568B6B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8BD5-6E14-4CC1-A52A-60C48190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AF2A-F2F6-4AD8-8728-FEC19FB7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475-92C7-43D9-B14E-C5ADF1CD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DC0-C489-4842-AEF9-C57A12B4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472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EE29-E6AE-4049-B5D6-0DF23594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809520"/>
            <a:ext cx="80773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2FC-086D-4288-9736-422C0A57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-34020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894600" indent="-32976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355040" indent="-34848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788840" indent="-32184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788840" indent="-32184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788840" indent="-32184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C2CA-A591-4B44-A478-883B001EF9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19520" y="6172200"/>
            <a:ext cx="3429000" cy="50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5:20:13Z</dcterms:created>
  <dc:creator>Tracy</dc:creator>
  <dc:description/>
  <dc:language>en-US</dc:language>
  <cp:lastModifiedBy>Eileen McCarthy</cp:lastModifiedBy>
  <cp:lastPrinted>1999-10-14T14:06:06Z</cp:lastPrinted>
  <dcterms:modified xsi:type="dcterms:W3CDTF">2004-11-23T20:00:44Z</dcterms:modified>
  <cp:revision>226</cp:revision>
  <dc:subject/>
  <dc:title>No Slide Title</dc:title>
</cp:coreProperties>
</file>