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71B-49D4-4AB7-8439-9ECE194A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0952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A24-DF42-4653-9F37-17F5A89C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472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366-498C-4A9D-A5EB-471C0749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640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772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640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772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8C3-25EB-4ED1-BD18-C41BAC76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901-4AA9-418B-A868-7A196703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A08-316F-4D52-BAD3-BEEAD780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03E-ECBA-4B8F-A579-6C339DD7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F83-FB7F-472F-B01A-35E24C92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98C-2BC9-45D6-B3EB-EE25FF4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E5D-A8EE-4D10-B883-E8098D13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472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E38-8EFF-4CA4-AB0C-BE48D153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D1C-082E-4B6A-ADC1-04A18585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-34020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894600" indent="-32976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355040" indent="-34848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788840" indent="-32184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788840" indent="-32184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788840" indent="-32184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8F2B-8BFF-4C08-B3E2-5A936E9D6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19520" y="6172200"/>
            <a:ext cx="3429000" cy="5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5:20:13Z</dcterms:created>
  <dc:creator>Tracy</dc:creator>
  <dc:description/>
  <dc:language>en-US</dc:language>
  <cp:lastModifiedBy>Eileen McCarthy</cp:lastModifiedBy>
  <cp:lastPrinted>1999-10-14T14:06:06Z</cp:lastPrinted>
  <dcterms:modified xsi:type="dcterms:W3CDTF">2004-11-23T20:00:44Z</dcterms:modified>
  <cp:revision>226</cp:revision>
  <dc:subject/>
  <dc:title>No Slide Title</dc:title>
</cp:coreProperties>
</file>