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BEFB-5AE7-4A21-867C-FAE04FFA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0773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809520"/>
            <a:ext cx="80773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8C74-53B6-4327-93CA-5BCD25C0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472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80952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4720" y="380952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B737-5BFE-4E84-A1F4-A92D6B9E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6400" y="170028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7720" y="170028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80952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6400" y="380952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7720" y="380952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5910-A319-40DD-83A4-FC57B350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70028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56FB-3ABA-4C0B-A402-D804F626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CAFE-7287-45FA-9C0C-2AA57729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941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4720" y="1700280"/>
            <a:ext cx="3941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0CE3-77F5-4500-B255-787A9BA2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8B1C-14A6-4862-A5D7-A2B0C08B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1D2F-9D47-4FEE-806D-CF3067A9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4720" y="1700280"/>
            <a:ext cx="3941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80952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1CC2-C158-4041-9946-8EDCF124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941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472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4720" y="380952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EA81-3A63-4356-87FA-075A5EAA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472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809520"/>
            <a:ext cx="80773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0174-6621-4849-A6EB-C1962D8D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700280"/>
            <a:ext cx="8077320" cy="403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8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-340200">
              <a:lnSpc>
                <a:spcPct val="85000"/>
              </a:lnSpc>
              <a:spcAft>
                <a:spcPts val="1599"/>
              </a:spcAft>
              <a:buClr>
                <a:srgbClr val="990000"/>
              </a:buClr>
              <a:buSzPct val="90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894600" indent="-329760">
              <a:lnSpc>
                <a:spcPct val="85000"/>
              </a:lnSpc>
              <a:spcAft>
                <a:spcPts val="1599"/>
              </a:spcAft>
              <a:buClr>
                <a:srgbClr val="9900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355040" indent="-348480">
              <a:lnSpc>
                <a:spcPct val="85000"/>
              </a:lnSpc>
              <a:spcAft>
                <a:spcPts val="1599"/>
              </a:spcAft>
              <a:buClr>
                <a:srgbClr val="990000"/>
              </a:buClr>
              <a:buSzPct val="9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788840" indent="-321840">
              <a:lnSpc>
                <a:spcPct val="85000"/>
              </a:lnSpc>
              <a:spcAft>
                <a:spcPts val="1599"/>
              </a:spcAft>
              <a:buClr>
                <a:srgbClr val="990000"/>
              </a:buClr>
              <a:buSzPct val="90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788840" indent="-321840">
              <a:lnSpc>
                <a:spcPct val="85000"/>
              </a:lnSpc>
              <a:spcAft>
                <a:spcPts val="1599"/>
              </a:spcAft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788840" indent="-321840">
              <a:lnSpc>
                <a:spcPct val="85000"/>
              </a:lnSpc>
              <a:spcAft>
                <a:spcPts val="1599"/>
              </a:spcAft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2B08-402B-407D-A97D-1ACE682485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819520" y="6172200"/>
            <a:ext cx="3429000" cy="50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440" y="170028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5:20:13Z</dcterms:created>
  <dc:creator>Tracy</dc:creator>
  <dc:description/>
  <dc:language>en-US</dc:language>
  <cp:lastModifiedBy>Eileen McCarthy</cp:lastModifiedBy>
  <cp:lastPrinted>1999-10-14T14:06:06Z</cp:lastPrinted>
  <dcterms:modified xsi:type="dcterms:W3CDTF">2004-11-23T20:00:44Z</dcterms:modified>
  <cp:revision>226</cp:revision>
  <dc:subject/>
  <dc:title>No Slide Title</dc:title>
</cp:coreProperties>
</file>