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2DE-40F5-4CB9-8A0C-CFA863A0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8EE-0D1B-4837-AB7C-2250EC73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3B6-B9B4-4249-B9CD-78C5265E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640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772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640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772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353-0932-4BA7-A06D-F3FCCCE2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ADB-5EFE-42EF-AB98-5B4937E9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A4E-D836-43D8-9FBA-627CA328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013-0569-45D5-9B5D-837C41F6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BFB-B622-4017-9AFD-EFED5A5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3D2-E245-4B3B-9419-25FC966E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563-1A30-4F94-9404-1FC24EE4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80C-F45B-4FD4-8C99-888F07D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27F-C6E7-4F9A-A3B4-8D1BD6AE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-34020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894600" indent="-32976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355040" indent="-34848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788840" indent="-32184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7173-D9CD-4D9A-A39E-FED384F8F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19520" y="6172200"/>
            <a:ext cx="3429000" cy="5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5:20:13Z</dcterms:created>
  <dc:creator>Tracy</dc:creator>
  <dc:description/>
  <dc:language>en-US</dc:language>
  <cp:lastModifiedBy>Eileen McCarthy</cp:lastModifiedBy>
  <cp:lastPrinted>1999-10-14T14:06:06Z</cp:lastPrinted>
  <dcterms:modified xsi:type="dcterms:W3CDTF">2004-11-23T20:00:44Z</dcterms:modified>
  <cp:revision>226</cp:revision>
  <dc:subject/>
  <dc:title>No Slide Title</dc:title>
</cp:coreProperties>
</file>