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FAE-C326-4405-8A3B-23E58E48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310-EAF1-4913-B9EB-9A3E0C7C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225-1A1C-4008-AC21-FD2E84EA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640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772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640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772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6C7-4686-4AFF-8BB8-AF4753B3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8E3-CD69-4A38-B152-C61597C9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A72-AC55-46BA-A2A3-7545F7E0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9D6-A7A6-46A1-8FAA-4B4ACD88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A30-4750-4D07-9C17-305C5AF2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28D-2FF7-40F7-A2B7-EFB14ECD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B63-2C2E-43E7-8DC6-683377A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09B-36FD-4321-BD1E-6C9B5E26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C81-F17F-4ECD-8C76-874A38CA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-34020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894600" indent="-32976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355040" indent="-34848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788840" indent="-32184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612C-07A7-42DB-8074-BB6E7F418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19520" y="6172200"/>
            <a:ext cx="3429000" cy="5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5:20:13Z</dcterms:created>
  <dc:creator>Tracy</dc:creator>
  <dc:description/>
  <dc:language>en-US</dc:language>
  <cp:lastModifiedBy>Eileen McCarthy</cp:lastModifiedBy>
  <cp:lastPrinted>1999-10-14T14:06:06Z</cp:lastPrinted>
  <dcterms:modified xsi:type="dcterms:W3CDTF">2004-11-23T20:00:44Z</dcterms:modified>
  <cp:revision>226</cp:revision>
  <dc:subject/>
  <dc:title>No Slide Title</dc:title>
</cp:coreProperties>
</file>